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58B0-112A-43D4-B618-9308FEFD28D5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4B1F-1721-4FFB-BD34-87D1FD380D68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F226-8609-40E0-84D4-8C5B4CDC37E6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D1B0-6FC2-4A19-A6C1-9A01A0483FD5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E5DF-A3D1-449F-BF81-21E12993C716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2554-094D-473B-8319-DB2055760C8C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C36F-9284-4E13-8CAC-32A7434002B3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3494-E0ED-4AE2-A6B6-6D888349BA73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55EE-A13E-4C56-96E8-C4BA62ED9050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C5D8-62BE-4473-AB3C-81021345E072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808A-AAB4-4BF3-9EDD-6657F1807224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1D82-1452-4203-A3D4-63EF73742DA6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CC14-69A7-4CBF-9BC7-A422C1ABBE51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CE87-D857-4722-B9FF-A8F1C88E00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86AD-669E-4651-A4DB-C1B02EAABF6B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4AC2-5A31-4F23-8297-90DA2EBE19A4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0D19-9B1F-4B63-870C-007BB286EC57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F1D3-DEEA-4655-B637-765456FC3F70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5466-EF70-40A4-AC72-E27ED1F784CC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A897-9C4B-4CBE-A712-0EE29B0C382C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A105-22C7-469B-A130-06217E5A9B0F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AAE-09BA-449D-AFE5-1DE1E967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F71-7C8D-41D2-B6F4-34B21270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D4E3A-0AE1-4196-B3BC-A373AF77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E24E9-FD4F-4BBE-ADC7-8C600FD8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995A5-18B6-4894-BB0D-22B57CFC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76DBA-5D4E-4E3C-B0B1-2AFE707F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B9AFE-8911-4892-8353-411ED8AD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A5B70-919D-47EB-9657-1142E3FA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14D3F-5DC9-4E42-8E45-746C180A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910BD-BC58-495A-8691-A23AEA3C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3F4E2-BFD8-48D3-9155-7CA492BD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FFE-6252-4909-8086-92320B2E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E16-82A7-4713-9AAE-47C0FF1B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F195-E022-41B6-9935-4DF575A2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FF55-33C7-44A2-809D-AB534D38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31D5-DF01-45DF-BC5E-8729D1E6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C431-9191-4CA9-94E6-BA967B20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FB3A-BF14-4F5D-A22C-576175B0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192F-92DD-420C-8B2D-2B335E5C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C164-E179-454B-90E1-E080300E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014-8A07-44AF-87AC-7249ABF3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89AC-7120-449E-945C-630396DD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1F39-63AF-4A8A-9D4C-712E6B64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7A73-724B-4D63-AEF3-D474A0E3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5F02-8D8B-47A1-B4EC-8C796896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66B9-E7A3-4B69-8DA0-55A728FD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606F0-8006-4F16-878D-4D361B3E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2A08-F635-42F5-B0C2-AAC91620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7953-10B1-40D9-9FB8-25F30252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D225-4BD8-4F2A-AD75-DA3F1D92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8EDD-D52A-487A-8696-9F5A5504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534-2B2E-476E-A486-05B947BB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8FFE-0941-4250-9137-5D17049A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4D5AB-EA7B-4317-B9CD-E7D45A70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F4C0-C044-4DE1-A099-47ACFC5C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1B8C-C30F-4653-8788-952824B9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57964-6CC0-4C7E-9160-6663E6AF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0387-2803-4059-AD6F-A9BFDDE2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24F1-16CA-474E-804A-03620064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2EE62-2CC8-4225-B7D1-AA2C1CE7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19F73-BF64-4D31-BBB4-E8BDF7FE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A7C0-3D78-4C49-83FB-5E363DCB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7D3-B47B-4AF7-83DB-23BFB2F8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EFED9-6DCF-48E0-9C77-B3B995B5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3386C-B561-43C8-B2B7-22DFC8F4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1747-B5C4-4799-921F-8CB0520B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E86F-8E53-46B7-B897-16A36238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9E841-3CF9-4F7B-8B03-82573E00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50AF-7316-45A1-8306-2D92101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66F7-0853-4E53-9293-B612E2C6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3569-D936-4749-89A5-B494FE80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75A2-F4F1-41B2-BC83-6CBDBF4B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FC9A-8BA1-4C7A-A483-6ED52F6C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952-BFCA-40E1-8A26-527C5852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9A076-1D78-486F-BB14-25D5D5BD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F636-F4F2-4A8D-9C91-4A0A8185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81FFD-D2E4-4884-98DE-249A74C6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2B5C-AE80-4070-80BE-0BE1F840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FB5D1-C3BC-457E-B3CB-AA3CDDE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48387-91F2-42E2-BC02-B27C5C5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06AB3-2A59-422E-87D1-7C90979E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B1E6-EE43-4E3B-828B-7CC32F2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083B-AD47-4F5E-9AF6-C2B0376A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7AB9E-9F66-457A-B674-E58A9814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335-FD4C-4F2F-BB5C-5C6AF4C9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7927-4B69-492E-B1A9-2021312D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DD24-95EC-40F5-8D50-F2B15E16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67D5-EA41-40FB-BE25-DD518CA2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E01F-F0A4-4734-AD4D-1A195F0B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A2BF3-3423-4E58-9401-C08D017F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3A843-CBE2-45B6-933C-813DA964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C67E9-0C6F-489A-A212-D82C7C25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9A705-2AD6-41BB-9C87-BE369D9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C48B-58CA-4033-827D-6AD2F2B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69D2D-AFD6-4840-99A7-55AE1D03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D2E-DC50-4B7A-ABCC-D2F97C55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8C059-253A-402E-A18F-ED3944AE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294C4-CEDF-41D4-B7E3-0B41FC1B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18586-A8C3-4CD7-9224-5DCB7F62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D94B3-4025-43B8-B963-68FD8AF5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AD96A-33A6-457B-812B-66BA6B52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BAFD0-CB16-4343-925E-11DCFA7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49034-4EE9-48B8-BD01-9B76FEA5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D244A-AC8B-4267-96CA-0A317244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C0AA-9D41-4FDF-9BFD-EBD73A0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6F35A-78E7-4E7C-8167-F96E9DE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515-B1B0-4960-8430-6DEECFE5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2E20F-D50A-45B0-8B91-D360E960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9D3E4-B2F9-4C7D-8EAF-0A61FD0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E6103-5E7A-4B78-A2D2-C607AC4F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140D9-2EAD-4E25-81AC-00DD5897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FF8D-C8C9-45B2-B710-F2AD3EB8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4E15A-D84A-4136-B478-337709A8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2C441-9849-4086-8379-3CEB5D70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D1FCF-C60D-4F29-A47E-759CF07E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0FA17-E7BD-4D28-B2EC-B4FD8674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97A8B-832D-4BDC-9EC1-5D35C46E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668-1BCD-4506-A2F9-213DF78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6BB0D-7B9E-4C62-9EA0-FD51EE74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ECA30-66BB-4AEE-A184-AC67729D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9D9E-CFFF-406F-80E3-4555FFB3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6DD4-89A9-445E-9C9C-F1F1C3A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880FC-14DA-4123-8A93-B7600AEC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D14AC-0966-4A36-9647-9A3AF3CE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90B5B-F6EA-40BC-AB63-93AC411F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474E3-B0C9-4D69-809F-B789FBF6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48910-7B93-417B-ADE0-A6C64CAC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C65C4-9AE8-40BF-97CB-65509FC6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A149-B1EF-4FC7-AE3B-6D38E81FDAF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EFC2-F8AA-4482-BBF0-358203D2F3D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7BDE-563F-42C9-921F-4169449FF07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9A1A-1F30-4058-878A-5DA2961A666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8445-279D-4D85-A3EF-B7BB6203BFF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67A9-2E2F-492C-A1A1-684777D9E4A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DDA3-B081-44B5-82E0-6D4B0A5A038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4E19-D963-4F1A-9910-15D816D906D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A1CD-4714-4B01-82A3-7801FF0A679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Heat Transf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Heat transfer by convection is caused by </a:t>
            </a:r>
            <a:r>
              <a:rPr b="1" lang="en-US" sz="3300" spc="-1" strike="noStrike" u="sng">
                <a:solidFill>
                  <a:srgbClr val="a5644e"/>
                </a:solidFill>
                <a:uFillTx/>
                <a:latin typeface="Franklin Gothic Book"/>
              </a:rPr>
              <a:t>differences of temperature and density within a fluid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a5644e"/>
                </a:solidFill>
                <a:uFillTx/>
                <a:latin typeface="Franklin Gothic Book"/>
              </a:rPr>
              <a:t>Density - </a:t>
            </a: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Is a measure of how much mass there is in a volume of a substance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304920" y="1600200"/>
            <a:ext cx="25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causes conv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228600" y="4495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dens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 constant flow begins as the cooler fluid continually sinks to the bottom of the pot and the warmer fluid rises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644e"/>
                </a:solidFill>
                <a:uFillTx/>
                <a:latin typeface="Franklin Gothic Book"/>
              </a:rPr>
              <a:t> </a:t>
            </a:r>
            <a:r>
              <a:rPr b="1" lang="en-US" sz="3600" spc="-1" strike="noStrike" u="sng">
                <a:solidFill>
                  <a:srgbClr val="a5644e"/>
                </a:solidFill>
                <a:uFillTx/>
                <a:latin typeface="Franklin Gothic Book"/>
              </a:rPr>
              <a:t>Convection Current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– is the flow that transfers heat within a flui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228600" y="42670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a convection cur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6" descr="Convection.jpg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The heating and cooling of the fluid, changes in the fluid’s density and the force of gravity combine to set convection currents in motion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"/>
          <p:cNvSpPr/>
          <p:nvPr/>
        </p:nvSpPr>
        <p:spPr>
          <a:xfrm>
            <a:off x="304920" y="1600200"/>
            <a:ext cx="25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sets convection currents in mo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Earth’s mantle responds to heat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Convection currents flow in the </a:t>
            </a:r>
            <a:r>
              <a:rPr b="1" lang="en-US" sz="3300" spc="-1" strike="noStrike" u="sng">
                <a:solidFill>
                  <a:srgbClr val="c17529"/>
                </a:solidFill>
                <a:uFillTx/>
                <a:latin typeface="Franklin Gothic Book"/>
              </a:rPr>
              <a:t>Asthenosphere</a:t>
            </a: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The heat source for these currents come from the </a:t>
            </a:r>
            <a:r>
              <a:rPr b="1" lang="en-US" sz="3300" spc="-1" strike="noStrike" u="sng">
                <a:solidFill>
                  <a:srgbClr val="c17529"/>
                </a:solidFill>
                <a:uFillTx/>
                <a:latin typeface="Franklin Gothic Book"/>
              </a:rPr>
              <a:t>Earth’s core and from the mantle itself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304920" y="3048120"/>
            <a:ext cx="2590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ere does the heat source for the Earth’s curren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1" name="Content Placeholder 4" descr="Convection currents in the mantle 2.jpg"/>
          <p:cNvPicPr/>
          <p:nvPr/>
        </p:nvPicPr>
        <p:blipFill>
          <a:blip r:embed="rId2"/>
          <a:stretch/>
        </p:blipFill>
        <p:spPr>
          <a:xfrm>
            <a:off x="2362320" y="2057400"/>
            <a:ext cx="4076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3" name="Content Placeholder 6" descr="Convection currents in the mantle.gif"/>
          <p:cNvPicPr/>
          <p:nvPr/>
        </p:nvPicPr>
        <p:blipFill>
          <a:blip r:embed="rId2"/>
          <a:stretch/>
        </p:blipFill>
        <p:spPr>
          <a:xfrm>
            <a:off x="914400" y="1828800"/>
            <a:ext cx="7234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255600" y="384120"/>
            <a:ext cx="8894880" cy="1139760"/>
          </a:xfrm>
          <a:prstGeom prst="rect">
            <a:avLst/>
          </a:prstGeom>
          <a:ln w="0">
            <a:noFill/>
          </a:ln>
        </p:spPr>
      </p:pic>
      <p:pic>
        <p:nvPicPr>
          <p:cNvPr id="465" name="Convergent_and_Divergent_Plates__How_Earth_s_Inner_Structure_Affects_Its_Surface.asf" descr=""/>
          <p:cNvPicPr/>
          <p:nvPr/>
        </p:nvPicPr>
        <p:blipFill>
          <a:blip r:embed="rId2"/>
          <a:stretch/>
        </p:blipFill>
        <p:spPr>
          <a:xfrm>
            <a:off x="990720" y="1644480"/>
            <a:ext cx="7467480" cy="5092920"/>
          </a:xfrm>
          <a:prstGeom prst="rect">
            <a:avLst/>
          </a:prstGeom>
          <a:ln w="0">
            <a:noFill/>
          </a:ln>
        </p:spPr>
      </p:pic>
      <p:sp>
        <p:nvSpPr>
          <p:cNvPr id="466" name="TextBox 8"/>
          <p:cNvSpPr/>
          <p:nvPr/>
        </p:nvSpPr>
        <p:spPr>
          <a:xfrm>
            <a:off x="762120" y="10666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How Earth's Inner Structure Affects Its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Stuff to do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4e3b3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plete the Heat Transfer concept map on the back of your note pag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4e3b3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f you didn’t begin or finish the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Earth’s interior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worksheet from yesterday pick it up from the red box and complete i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4e3b3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ce you have finished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Earth’s interior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pick up a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What’s happening during convection?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Worksheet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4f2d"/>
                </a:solidFill>
                <a:latin typeface="Franklin Gothic Book"/>
              </a:rPr>
              <a:t>DO NOT WRITE ON THESE WORKSHEETS!!!! ALL YOUR WORK MUST BE DONE IN YOUR SCIENCE NOTEBOOK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rth’s molten outer core is nearly as hot as the surface of the su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eat is transferred from the core to the surface of the Earth through liquids and solid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8</a:t>
            </a:r>
            <a:r>
              <a:rPr b="0" lang="en-US" sz="3600" spc="-1" strike="noStrike" baseline="30000">
                <a:solidFill>
                  <a:srgbClr val="4e3b30"/>
                </a:solidFill>
                <a:latin typeface="Franklin Gothic Medium"/>
              </a:rPr>
              <a:t>th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Grade Exit Slip 09/14/10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swer the following ques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07920" indent="-436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644e"/>
                </a:solidFill>
                <a:latin typeface="Franklin Gothic Book"/>
              </a:rPr>
              <a:t>What are the three types of heat transfer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Heat Transfer – </a:t>
            </a:r>
            <a:r>
              <a:rPr b="1" lang="en-US" sz="4400" spc="-1" strike="noStrike" u="sng">
                <a:solidFill>
                  <a:srgbClr val="c17529"/>
                </a:solidFill>
                <a:uFillTx/>
                <a:latin typeface="Franklin Gothic Book"/>
              </a:rPr>
              <a:t>is the movement of energy from a warmer object to a cooler object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Straight Connector 3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304920" y="19051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heat trans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here are three types of heat transfer: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Radiation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Conduction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Convection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Straight Connector 3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4920" y="1600200"/>
            <a:ext cx="25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are the types of heat trans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Radiation</a:t>
            </a: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: is the transfer of energy through empty space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Straight Connector 3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304920" y="16002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radi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560" y="12952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e3b30"/>
                </a:solidFill>
                <a:latin typeface="Franklin Gothic Book"/>
              </a:rPr>
              <a:t>Example: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644e"/>
                </a:solidFill>
                <a:latin typeface="Franklin Gothic Book"/>
              </a:rPr>
              <a:t>Sunlight is radiation that warms the Earth’s surfa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644e"/>
                </a:solidFill>
                <a:latin typeface="Franklin Gothic Book"/>
              </a:rPr>
              <a:t>Heat you feel from around an open flame or fi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3" descr="Radiation.bmp"/>
          <p:cNvPicPr/>
          <p:nvPr/>
        </p:nvPicPr>
        <p:blipFill>
          <a:blip r:embed="rId2"/>
          <a:stretch/>
        </p:blipFill>
        <p:spPr>
          <a:xfrm>
            <a:off x="533520" y="3124080"/>
            <a:ext cx="3124080" cy="2048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eat-transmittance-means2.jpg"/>
          <p:cNvPicPr/>
          <p:nvPr/>
        </p:nvPicPr>
        <p:blipFill>
          <a:blip r:embed="rId3"/>
          <a:srcRect l="5821" t="62701" r="12727" b="0"/>
          <a:stretch/>
        </p:blipFill>
        <p:spPr>
          <a:xfrm>
            <a:off x="4343400" y="5029200"/>
            <a:ext cx="4267080" cy="1362240"/>
          </a:xfrm>
          <a:prstGeom prst="rect">
            <a:avLst/>
          </a:prstGeom>
          <a:ln w="0">
            <a:noFill/>
          </a:ln>
        </p:spPr>
      </p:pic>
      <p:sp>
        <p:nvSpPr>
          <p:cNvPr id="427" name="TextBox 5"/>
          <p:cNvSpPr/>
          <p:nvPr/>
        </p:nvSpPr>
        <p:spPr>
          <a:xfrm>
            <a:off x="1600200" y="4724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onduction</a:t>
            </a: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: is heat transfer by direct contact of particles of matter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"/>
          <p:cNvSpPr/>
          <p:nvPr/>
        </p:nvSpPr>
        <p:spPr>
          <a:xfrm>
            <a:off x="304920" y="16002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cond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228240" y="1600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Example: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a5644e"/>
                </a:solidFill>
                <a:latin typeface="Franklin Gothic Book"/>
              </a:rPr>
              <a:t>Heat is transferred from the hot soup and the pot to the particles that make up the spoon.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Picture 3" descr="Conduction.gif"/>
          <p:cNvPicPr/>
          <p:nvPr/>
        </p:nvPicPr>
        <p:blipFill>
          <a:blip r:embed="rId2"/>
          <a:stretch/>
        </p:blipFill>
        <p:spPr>
          <a:xfrm>
            <a:off x="2971800" y="3048120"/>
            <a:ext cx="4800600" cy="3589200"/>
          </a:xfrm>
          <a:prstGeom prst="rect">
            <a:avLst/>
          </a:prstGeom>
          <a:ln w="0">
            <a:noFill/>
          </a:ln>
        </p:spPr>
      </p:pic>
      <p:cxnSp>
        <p:nvCxnSpPr>
          <p:cNvPr id="435" name="Straight Arrow Connector 7"/>
          <p:cNvCxnSpPr/>
          <p:nvPr/>
        </p:nvCxnSpPr>
        <p:spPr>
          <a:xfrm>
            <a:off x="2133360" y="4038120"/>
            <a:ext cx="15246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6" name="TextBox 8"/>
          <p:cNvSpPr/>
          <p:nvPr/>
        </p:nvSpPr>
        <p:spPr>
          <a:xfrm>
            <a:off x="457200" y="36576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at transferred to the particles of the spoon from the pot and ho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Convection</a:t>
            </a:r>
            <a:r>
              <a:rPr b="0" lang="en-US" sz="3300" spc="-1" strike="noStrike">
                <a:solidFill>
                  <a:srgbClr val="a5644e"/>
                </a:solidFill>
                <a:latin typeface="Franklin Gothic Book"/>
              </a:rPr>
              <a:t>: </a:t>
            </a:r>
            <a:r>
              <a:rPr b="1" lang="en-US" sz="3300" spc="-1" strike="noStrike" u="sng">
                <a:solidFill>
                  <a:srgbClr val="c17529"/>
                </a:solidFill>
                <a:uFillTx/>
                <a:latin typeface="Franklin Gothic Book"/>
              </a:rPr>
              <a:t>is</a:t>
            </a:r>
            <a:r>
              <a:rPr b="1" lang="en-US" sz="3300" spc="-1" strike="noStrike" u="sng">
                <a:solidFill>
                  <a:srgbClr val="a5644e"/>
                </a:solidFill>
                <a:uFillTx/>
                <a:latin typeface="Franklin Gothic Book"/>
              </a:rPr>
              <a:t> </a:t>
            </a:r>
            <a:r>
              <a:rPr b="1" lang="en-US" sz="3300" spc="-1" strike="noStrike" u="sng">
                <a:solidFill>
                  <a:srgbClr val="c17529"/>
                </a:solidFill>
                <a:uFillTx/>
                <a:latin typeface="Franklin Gothic Book"/>
              </a:rPr>
              <a:t>heat transfer by the movement of a heated fluid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During convection heated particles of fluid begin to flow.  Transferring heat energy from one part of the fluid to another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"/>
          <p:cNvSpPr/>
          <p:nvPr/>
        </p:nvSpPr>
        <p:spPr>
          <a:xfrm>
            <a:off x="380880" y="15238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conv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1:27:09Z</dcterms:created>
  <dc:creator>Megan Braman</dc:creator>
  <dc:description/>
  <dc:language>en-US</dc:language>
  <cp:lastModifiedBy>Gina</cp:lastModifiedBy>
  <dcterms:modified xsi:type="dcterms:W3CDTF">2010-11-18T14:01:28Z</dcterms:modified>
  <cp:revision>27</cp:revision>
  <dc:subject/>
  <dc:title>Convection Currents and the Mantle</dc:title>
</cp:coreProperties>
</file>